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53E-044B-4D24-9827-BAF28C30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DE48-99F0-499C-B162-3DB0D51F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CB08-178B-44FB-81CE-B9E12830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5AE-AA62-499B-BB15-534234A7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F2B-9B9B-407D-8050-C6CBF73E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6200-58A6-41CC-8F99-0285A47A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9939-F20F-4E21-97D7-CC834950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6C7-562E-4671-A121-B48FD377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6C9C-44B4-4D9B-B3C2-A727A5CA2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28E-4051-4CD9-B811-CE242D69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73F4-6415-4B37-9298-E7D4AD338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BC0-BC4F-4880-B436-718030A8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F1F7C1-CBF6-4128-886B-9048245771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31ECB-5EFA-4C01-8BC6-CB02B1B03B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orldproblemsshroder.wikispaces.com/Week+One+Calendar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the Wor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Ru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o Muskies!!!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lins Wr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are and Contrast your life in the United States with people from around the wor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3 ways it would be diffe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if the world was 100 people char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  10-15 lines (2 points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  3 differences (3 points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____  1 way this would impact your life (1 poi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 will learn today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we will 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 and Contrast your life with people from around the world? Collins Wri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IA World Factbo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m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 on Cha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you need to kno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ople in Socie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ze how issues may be viewed differently from different political grou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causes of oppression/ analyze respon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s Standar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nalyze how scarcity influences economic cho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lutions to persistent contemporary problem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are Jour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ould your life be differ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might this impact you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hat ways might your life be better elsewhere?  Worse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ut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u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 Socializ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day red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urn in Expectation sheets by tomorr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ing the World ch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A World Factbo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C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is reliable information?  Why or 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king on Compu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Independently- limit socializing, educational websit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sten carefully to directions so you know where to find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be around to help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it Tic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Back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e down 1 fact about each count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lain how 2 of these differences would impact your lif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find the Count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op Down Men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are we looking fo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we find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orldproblemsshroder.wikispaces.com/Week+One+Calend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4:50:48Z</dcterms:created>
  <dc:creator>Craig Rush</dc:creator>
  <dc:description/>
  <dc:language>en-US</dc:language>
  <cp:lastModifiedBy>Craig Rush</cp:lastModifiedBy>
  <dcterms:modified xsi:type="dcterms:W3CDTF">2011-01-06T13:42:19Z</dcterms:modified>
  <cp:revision>4</cp:revision>
  <dc:subject/>
  <dc:title>Comparing the World</dc:title>
</cp:coreProperties>
</file>